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114840" y="1298520"/>
            <a:ext cx="219240" cy="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4760" y="1219320"/>
            <a:ext cx="0" cy="16164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32640" y="655308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B1FA-6350-4DB0-A3FF-E3CA9D24451F}" type="slidenum">
              <a:rPr b="0" lang="de-DE" sz="1400" spc="-1" strike="noStrike">
                <a:solidFill>
                  <a:srgbClr val="134f9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898560"/>
            <a:chOff x="0" y="0"/>
            <a:chExt cx="9144000" cy="89856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6372360" y="165240"/>
              <a:ext cx="2430360" cy="527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17880" y="2809800"/>
            <a:ext cx="703080" cy="1584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29160" y="280980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43640" y="2708280"/>
            <a:ext cx="1508040" cy="1771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78240" y="2581200"/>
            <a:ext cx="1366920" cy="73368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9520" y="3889440"/>
            <a:ext cx="129564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78600" y="37465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71000" y="25002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68360" y="4365720"/>
            <a:ext cx="1007640" cy="934920"/>
            <a:chOff x="468360" y="4365720"/>
            <a:chExt cx="1007640" cy="934920"/>
          </a:xfrm>
        </p:grpSpPr>
        <p:sp>
          <p:nvSpPr>
            <p:cNvPr id="50" name=""/>
            <p:cNvSpPr/>
            <p:nvPr/>
          </p:nvSpPr>
          <p:spPr>
            <a:xfrm>
              <a:off x="550440" y="4365720"/>
              <a:ext cx="843120" cy="52668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4080" y="4415760"/>
              <a:ext cx="736200" cy="43020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8360" y="4892400"/>
              <a:ext cx="1007640" cy="40824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4040" y="4892400"/>
              <a:ext cx="838080" cy="108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8280" y="4937760"/>
              <a:ext cx="852480" cy="22608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20760" y="544500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476360" y="4076640"/>
            <a:ext cx="1727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600" y="107460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- tool to show the reconfigur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97160" y="2378160"/>
            <a:ext cx="432000" cy="863640"/>
          </a:xfrm>
          <a:custGeom>
            <a:avLst/>
            <a:gdLst/>
            <a:ahLst/>
            <a:rect l="l" t="t" r="r" b="b"/>
            <a:pathLst>
              <a:path w="272" h="544">
                <a:moveTo>
                  <a:pt x="227" y="0"/>
                </a:moveTo>
                <a:lnTo>
                  <a:pt x="136" y="136"/>
                </a:lnTo>
                <a:lnTo>
                  <a:pt x="272" y="227"/>
                </a:lnTo>
                <a:lnTo>
                  <a:pt x="0" y="544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-21" b="-192"/>
          <a:stretch/>
        </p:blipFill>
        <p:spPr>
          <a:xfrm>
            <a:off x="179280" y="1844640"/>
            <a:ext cx="5616720" cy="251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4972320" cy="1581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 flipV="1">
            <a:off x="1263240" y="3234960"/>
            <a:ext cx="58294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26960" y="3933720"/>
            <a:ext cx="20293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ight mouse click -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58920" y="4221000"/>
            <a:ext cx="38178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960" y="6308640"/>
            <a:ext cx="78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our example: Change it to   </a:t>
            </a:r>
            <a:r>
              <a:rPr b="1" lang="de-DE" sz="1800" spc="-1" strike="noStrike">
                <a:solidFill>
                  <a:srgbClr val="ff3300"/>
                </a:solidFill>
                <a:latin typeface="Arial"/>
              </a:rPr>
              <a:t>mpingLCD.exe –z50–w50 –tsu 10.149.3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7080" y="107460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edit the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18160" y="1434960"/>
            <a:ext cx="5216040" cy="532620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count        number of echo request to be sent during one loop (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l length       length of buffer (in bytes) to be sent 4..65500 (3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w timeout      timeout in milliseconds waiting for the reply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z time         time in milliseconds between packets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m retries      how often a ping is repeated before timeout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i lost         lost echo requests before counting interruption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x inc          increment destination IP address by 'inc'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o count        number of pings before the IP addr. is incremented (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T time         sending pings continuously - loop time in sec.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loops        max. number of ping loops (unlimi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Z time         time in seconds between loop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t              sending pings continuously to the host - loop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s              show only ping statistics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g              show current time instead of time since star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u              new line in output for each interruption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a              count ICMP errors and corrupted as interruption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statistics overview when terminating program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interruption overview when terminating program 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k              block keyboar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quiet mode, header &amp; trailer only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strict quiet mode, no screen outpu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d              the contents of all packets is display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U              output only unreachable IPs (in stat. mode, too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ce when an interruption has been detect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 interruption (for every lost packet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r              UDP receiver mode for IP address (source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c              UDP transmitter mode for IP address (dest.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p port         UDP port number for receiver and transmitter +1 (1820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f file name    name of log file for ping statistics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file name    name of file with ip address list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             append hostname to ping result lin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display messages for ip address list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same as -v, display also debug message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W              write resolved IP list host addr. to cache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H              displays more help on IP list file processing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ecial keys during statistic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&lt;ESC&gt;   qu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CR&gt;    reset statist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Space&gt; display statistics over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628640"/>
            <a:ext cx="3635280" cy="85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yntax: MPing [-?htsguaeEkqQdyYrcUvVBH] [-n count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l length] [-w timeout] [-z time] [-m retrie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i lost] [-x inc] [-o count] [-T time] [-N Loop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Z time] [-p port] [-f file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b file] [-W file] IP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720" y="10746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defin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8920" y="1628640"/>
            <a:ext cx="89647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025880" y="2160720"/>
            <a:ext cx="70344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37160" y="216072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451640" y="2058840"/>
            <a:ext cx="1508040" cy="177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86240" y="1932120"/>
            <a:ext cx="1366920" cy="73332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57880" y="3240000"/>
            <a:ext cx="129528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6600" y="3097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79000" y="185112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378240" y="4681440"/>
            <a:ext cx="1439640" cy="1723320"/>
            <a:chOff x="3378240" y="4681440"/>
            <a:chExt cx="1439640" cy="1723320"/>
          </a:xfrm>
        </p:grpSpPr>
        <p:sp>
          <p:nvSpPr>
            <p:cNvPr id="78" name=""/>
            <p:cNvSpPr/>
            <p:nvPr/>
          </p:nvSpPr>
          <p:spPr>
            <a:xfrm>
              <a:off x="3495600" y="4681440"/>
              <a:ext cx="1204560" cy="97092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71920" y="4773960"/>
              <a:ext cx="1051560" cy="79344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78240" y="5652360"/>
              <a:ext cx="1439640" cy="75240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00640" y="5652360"/>
              <a:ext cx="1197000" cy="216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2720" y="5736600"/>
              <a:ext cx="1217880" cy="41724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446640" y="655308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097160" y="3336480"/>
            <a:ext cx="142920" cy="13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9120" y="1125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After these settings ----   You can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rcRect l="0" t="42761" r="65369" b="-192"/>
          <a:stretch/>
        </p:blipFill>
        <p:spPr>
          <a:xfrm>
            <a:off x="971640" y="1989000"/>
            <a:ext cx="1944720" cy="144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2276640"/>
            <a:ext cx="505080" cy="1800000"/>
          </a:xfrm>
          <a:custGeom>
            <a:avLst/>
            <a:gdLst/>
            <a:ahLst/>
            <a:rect l="l" t="t" r="r" b="b"/>
            <a:pathLst>
              <a:path w="318" h="1134">
                <a:moveTo>
                  <a:pt x="136" y="0"/>
                </a:moveTo>
                <a:lnTo>
                  <a:pt x="0" y="0"/>
                </a:lnTo>
                <a:lnTo>
                  <a:pt x="0" y="1134"/>
                </a:lnTo>
                <a:lnTo>
                  <a:pt x="318" y="113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0920" y="3911760"/>
            <a:ext cx="18615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 Double click (st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635280" y="4869000"/>
            <a:ext cx="57636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43000" y="5373720"/>
            <a:ext cx="250632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. This clock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d stop wh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reconfiguration is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284360" y="5157360"/>
            <a:ext cx="13669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45160" y="1341360"/>
            <a:ext cx="16941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. Interrupt this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364000" y="162864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0:10:30Z</dcterms:created>
  <dc:creator>Bauer, armin</dc:creator>
  <dc:description/>
  <dc:language>en-US</dc:language>
  <cp:lastModifiedBy>abauer</cp:lastModifiedBy>
  <dcterms:modified xsi:type="dcterms:W3CDTF">2010-02-26T14:54:06Z</dcterms:modified>
  <cp:revision>14</cp:revision>
  <dc:subject/>
  <dc:title>Folie 1</dc:title>
</cp:coreProperties>
</file>