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>
            <a:off x="-114840" y="1298520"/>
            <a:ext cx="219240" cy="0"/>
          </a:xfrm>
          <a:prstGeom prst="line">
            <a:avLst/>
          </a:prstGeom>
          <a:ln w="9360">
            <a:solidFill>
              <a:srgbClr val="134f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4760" y="1219320"/>
            <a:ext cx="0" cy="161640"/>
          </a:xfrm>
          <a:prstGeom prst="line">
            <a:avLst/>
          </a:prstGeom>
          <a:ln w="9360">
            <a:solidFill>
              <a:srgbClr val="134f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432640" y="6553080"/>
            <a:ext cx="811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56CEB-3DFA-4570-B13F-FD802A3564C7}" type="slidenum">
              <a:rPr b="0" lang="de-DE" sz="1400" spc="-1" strike="noStrike">
                <a:solidFill>
                  <a:srgbClr val="134f9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9144000" cy="898560"/>
            <a:chOff x="0" y="0"/>
            <a:chExt cx="9144000" cy="898560"/>
          </a:xfrm>
        </p:grpSpPr>
        <p:pic>
          <p:nvPicPr>
            <p:cNvPr id="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" descr=""/>
            <p:cNvPicPr/>
            <p:nvPr/>
          </p:nvPicPr>
          <p:blipFill>
            <a:blip r:embed="rId3"/>
            <a:stretch/>
          </p:blipFill>
          <p:spPr>
            <a:xfrm>
              <a:off x="6372360" y="165240"/>
              <a:ext cx="2430360" cy="52704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17880" y="2809800"/>
            <a:ext cx="703080" cy="1584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29160" y="2809800"/>
            <a:ext cx="990720" cy="1584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443640" y="2708280"/>
            <a:ext cx="1508040" cy="1771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378240" y="2581200"/>
            <a:ext cx="1366920" cy="733680"/>
          </a:xfrm>
          <a:custGeom>
            <a:avLst/>
            <a:gdLst/>
            <a:ahLst/>
            <a:rect l="l" t="t" r="r" b="b"/>
            <a:pathLst>
              <a:path w="861" h="462">
                <a:moveTo>
                  <a:pt x="0" y="462"/>
                </a:moveTo>
                <a:cubicBezTo>
                  <a:pt x="132" y="239"/>
                  <a:pt x="265" y="16"/>
                  <a:pt x="408" y="8"/>
                </a:cubicBezTo>
                <a:cubicBezTo>
                  <a:pt x="551" y="0"/>
                  <a:pt x="706" y="208"/>
                  <a:pt x="861" y="41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49520" y="3889440"/>
            <a:ext cx="1295640" cy="720720"/>
          </a:xfrm>
          <a:custGeom>
            <a:avLst/>
            <a:gdLst/>
            <a:ahLst/>
            <a:rect l="l" t="t" r="r" b="b"/>
            <a:pathLst>
              <a:path w="816" h="454">
                <a:moveTo>
                  <a:pt x="0" y="0"/>
                </a:moveTo>
                <a:cubicBezTo>
                  <a:pt x="90" y="227"/>
                  <a:pt x="181" y="454"/>
                  <a:pt x="317" y="454"/>
                </a:cubicBezTo>
                <a:cubicBezTo>
                  <a:pt x="453" y="454"/>
                  <a:pt x="634" y="227"/>
                  <a:pt x="816" y="0"/>
                </a:cubicBezTo>
              </a:path>
            </a:pathLst>
          </a:custGeom>
          <a:noFill/>
          <a:ln w="38160">
            <a:solidFill>
              <a:srgbClr val="ff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178600" y="374652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471000" y="2500200"/>
            <a:ext cx="122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149.31.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468360" y="4365720"/>
            <a:ext cx="1007640" cy="934920"/>
            <a:chOff x="468360" y="4365720"/>
            <a:chExt cx="1007640" cy="934920"/>
          </a:xfrm>
        </p:grpSpPr>
        <p:sp>
          <p:nvSpPr>
            <p:cNvPr id="50" name=""/>
            <p:cNvSpPr/>
            <p:nvPr/>
          </p:nvSpPr>
          <p:spPr>
            <a:xfrm>
              <a:off x="550440" y="4365720"/>
              <a:ext cx="843120" cy="526680"/>
            </a:xfrm>
            <a:prstGeom prst="rect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4080" y="4415760"/>
              <a:ext cx="736200" cy="430200"/>
            </a:xfrm>
            <a:prstGeom prst="rect">
              <a:avLst/>
            </a:prstGeom>
            <a:solidFill>
              <a:srgbClr val="d9d9d9"/>
            </a:solidFill>
            <a:ln w="64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68360" y="4892400"/>
              <a:ext cx="1007640" cy="408240"/>
            </a:xfrm>
            <a:custGeom>
              <a:avLst/>
              <a:gdLst/>
              <a:ahLst/>
              <a:rect l="l" t="t" r="r" b="b"/>
              <a:pathLst>
                <a:path w="564" h="276">
                  <a:moveTo>
                    <a:pt x="564" y="276"/>
                  </a:moveTo>
                  <a:lnTo>
                    <a:pt x="0" y="276"/>
                  </a:lnTo>
                  <a:lnTo>
                    <a:pt x="46" y="0"/>
                  </a:lnTo>
                  <a:lnTo>
                    <a:pt x="519" y="0"/>
                  </a:lnTo>
                  <a:lnTo>
                    <a:pt x="564" y="276"/>
                  </a:lnTo>
                  <a:close/>
                </a:path>
              </a:pathLst>
            </a:custGeom>
            <a:solidFill>
              <a:srgbClr val="bfbf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4040" y="4892400"/>
              <a:ext cx="838080" cy="1080"/>
            </a:xfrm>
            <a:prstGeom prst="line">
              <a:avLst/>
            </a:prstGeom>
            <a:ln w="1116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8280" y="4937760"/>
              <a:ext cx="852480" cy="226080"/>
            </a:xfrm>
            <a:custGeom>
              <a:avLst/>
              <a:gdLst/>
              <a:ahLst/>
              <a:rect l="l" t="t" r="r" b="b"/>
              <a:pathLst>
                <a:path w="477" h="153">
                  <a:moveTo>
                    <a:pt x="477" y="153"/>
                  </a:moveTo>
                  <a:lnTo>
                    <a:pt x="0" y="152"/>
                  </a:lnTo>
                  <a:lnTo>
                    <a:pt x="21" y="0"/>
                  </a:lnTo>
                  <a:lnTo>
                    <a:pt x="455" y="0"/>
                  </a:lnTo>
                  <a:lnTo>
                    <a:pt x="477" y="15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320760" y="5445000"/>
            <a:ext cx="132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149.18.2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476360" y="4076640"/>
            <a:ext cx="172728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9600" y="1074600"/>
            <a:ext cx="541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6699"/>
                </a:solidFill>
                <a:latin typeface="Arial"/>
              </a:rPr>
              <a:t>mPing</a:t>
            </a:r>
            <a:r>
              <a:rPr b="1" lang="de-DE" sz="1800" spc="-1" strike="noStrike">
                <a:solidFill>
                  <a:srgbClr val="336699"/>
                </a:solidFill>
                <a:latin typeface="Arial"/>
              </a:rPr>
              <a:t>  - tool to show the reconfiguratio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097160" y="2378160"/>
            <a:ext cx="432000" cy="863640"/>
          </a:xfrm>
          <a:custGeom>
            <a:avLst/>
            <a:gdLst/>
            <a:ahLst/>
            <a:rect l="l" t="t" r="r" b="b"/>
            <a:pathLst>
              <a:path w="272" h="544">
                <a:moveTo>
                  <a:pt x="227" y="0"/>
                </a:moveTo>
                <a:lnTo>
                  <a:pt x="136" y="136"/>
                </a:lnTo>
                <a:lnTo>
                  <a:pt x="272" y="227"/>
                </a:lnTo>
                <a:lnTo>
                  <a:pt x="0" y="544"/>
                </a:lnTo>
              </a:path>
            </a:pathLst>
          </a:custGeom>
          <a:noFill/>
          <a:ln w="572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-21" b="-192"/>
          <a:stretch/>
        </p:blipFill>
        <p:spPr>
          <a:xfrm>
            <a:off x="179280" y="1844640"/>
            <a:ext cx="5616720" cy="2511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900000" y="4581360"/>
            <a:ext cx="4972320" cy="1581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 flipH="1" flipV="1">
            <a:off x="1263240" y="3234960"/>
            <a:ext cx="5829480" cy="62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26960" y="3933720"/>
            <a:ext cx="20293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ight mouse click - e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58920" y="4221000"/>
            <a:ext cx="381780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5960" y="6308640"/>
            <a:ext cx="78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 our example: Change it to   </a:t>
            </a:r>
            <a:r>
              <a:rPr b="1" lang="de-DE" sz="1800" spc="-1" strike="noStrike">
                <a:solidFill>
                  <a:srgbClr val="ff3300"/>
                </a:solidFill>
                <a:latin typeface="Arial"/>
              </a:rPr>
              <a:t>mpingLCD.exe –z50–w50 –tsu 10.149.31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7080" y="1074600"/>
            <a:ext cx="39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6699"/>
                </a:solidFill>
                <a:latin typeface="Arial"/>
              </a:rPr>
              <a:t>mPing</a:t>
            </a:r>
            <a:r>
              <a:rPr b="0" lang="de-DE" sz="2000" spc="-1" strike="noStrike">
                <a:solidFill>
                  <a:srgbClr val="336699"/>
                </a:solidFill>
                <a:latin typeface="Arial"/>
              </a:rPr>
              <a:t>   -   edit the parameters</a:t>
            </a:r>
            <a:r>
              <a:rPr b="1" lang="de-DE" sz="1800" spc="-1" strike="noStrike">
                <a:solidFill>
                  <a:srgbClr val="3366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818160" y="1434960"/>
            <a:ext cx="5216040" cy="5326200"/>
          </a:xfrm>
          <a:prstGeom prst="rect">
            <a:avLst/>
          </a:prstGeom>
          <a:noFill/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p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n count        number of echo request to be sent during one loop (4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l length       length of buffer (in bytes) to be sent 4..65500 (3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w timeout      timeout in milliseconds waiting for the reply (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z time         time in milliseconds between packets (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m retries      how often a ping is repeated before timeout (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i lost         lost echo requests before counting interruptions (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x inc          increment destination IP address by 'inc' (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o count        number of pings before the IP addr. is incremented (1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T time         sending pings continuously - loop time in sec. (non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N loops        max. number of ping loops (unlimi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Z time         time in seconds between loops (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t              sending pings continuously to the host - loop (of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s              show only ping statistics (of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g              show current time instead of time since start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u              new line in output for each interruption (of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a              count ICMP errors and corrupted as interruptions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e              statistics overview when terminating program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E              interruption overview when terminating program 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k              block keyboard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q              quiet mode, header &amp; trailer only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Q              strict quiet mode, no screen output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d              the contents of all packets is displayed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U              output only unreachable IPs (in stat. mode, too)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y              beep once when an interruption has been detected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Y              beep on interruption (for every lost packet)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r              UDP receiver mode for IP address (source)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c              UDP transmitter mode for IP address (dest.)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p port         UDP port number for receiver and transmitter +1 (1820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f file name    name of log file for ping statistics (non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b file name    name of file with ip address list (non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B              append hostname to ping result line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v              display messages for ip address list file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V              same as -v, display also debug messages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W              write resolved IP list host addr. to cache file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H              displays more help on IP list file processing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ecial keys during statistic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&lt;ESC&gt;   qu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CR&gt;    reset statisti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Space&gt; display statistics overvi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628640"/>
            <a:ext cx="3635280" cy="855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yntax: MPing [-?htsguaeEkqQdyYrcUvVBH] [-n count]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[-l length] [-w timeout] [-z time] [-m retries]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[-i lost] [-x inc] [-o count] [-T time] [-N Loops]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[-Z time] [-p port] [-f file]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[-b file] [-W file] IP addr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6720" y="107460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6699"/>
                </a:solidFill>
                <a:latin typeface="Arial"/>
              </a:rPr>
              <a:t>mPing</a:t>
            </a:r>
            <a:r>
              <a:rPr b="0" lang="de-DE" sz="2000" spc="-1" strike="noStrike">
                <a:solidFill>
                  <a:srgbClr val="336699"/>
                </a:solidFill>
                <a:latin typeface="Arial"/>
              </a:rPr>
              <a:t>   -   parameters</a:t>
            </a:r>
            <a:r>
              <a:rPr b="1" lang="de-DE" sz="1800" spc="-1" strike="noStrike">
                <a:solidFill>
                  <a:srgbClr val="336699"/>
                </a:solidFill>
                <a:latin typeface="Arial"/>
              </a:rPr>
              <a:t> defini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8920" y="1628640"/>
            <a:ext cx="896472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025880" y="2160720"/>
            <a:ext cx="703440" cy="1584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537160" y="2160720"/>
            <a:ext cx="990720" cy="1584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451640" y="2058840"/>
            <a:ext cx="1508040" cy="1771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386240" y="1932120"/>
            <a:ext cx="1366920" cy="733320"/>
          </a:xfrm>
          <a:custGeom>
            <a:avLst/>
            <a:gdLst/>
            <a:ahLst/>
            <a:rect l="l" t="t" r="r" b="b"/>
            <a:pathLst>
              <a:path w="861" h="462">
                <a:moveTo>
                  <a:pt x="0" y="462"/>
                </a:moveTo>
                <a:cubicBezTo>
                  <a:pt x="132" y="239"/>
                  <a:pt x="265" y="16"/>
                  <a:pt x="408" y="8"/>
                </a:cubicBezTo>
                <a:cubicBezTo>
                  <a:pt x="551" y="0"/>
                  <a:pt x="706" y="208"/>
                  <a:pt x="861" y="41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57880" y="3240000"/>
            <a:ext cx="1295280" cy="720720"/>
          </a:xfrm>
          <a:custGeom>
            <a:avLst/>
            <a:gdLst/>
            <a:ahLst/>
            <a:rect l="l" t="t" r="r" b="b"/>
            <a:pathLst>
              <a:path w="816" h="454">
                <a:moveTo>
                  <a:pt x="0" y="0"/>
                </a:moveTo>
                <a:cubicBezTo>
                  <a:pt x="90" y="227"/>
                  <a:pt x="181" y="454"/>
                  <a:pt x="317" y="454"/>
                </a:cubicBezTo>
                <a:cubicBezTo>
                  <a:pt x="453" y="454"/>
                  <a:pt x="634" y="227"/>
                  <a:pt x="816" y="0"/>
                </a:cubicBezTo>
              </a:path>
            </a:pathLst>
          </a:custGeom>
          <a:noFill/>
          <a:ln w="38160">
            <a:solidFill>
              <a:srgbClr val="ff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86600" y="309708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479000" y="1851120"/>
            <a:ext cx="122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149.31.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3378240" y="4681440"/>
            <a:ext cx="1439640" cy="1723320"/>
            <a:chOff x="3378240" y="4681440"/>
            <a:chExt cx="1439640" cy="1723320"/>
          </a:xfrm>
        </p:grpSpPr>
        <p:sp>
          <p:nvSpPr>
            <p:cNvPr id="78" name=""/>
            <p:cNvSpPr/>
            <p:nvPr/>
          </p:nvSpPr>
          <p:spPr>
            <a:xfrm>
              <a:off x="3495600" y="4681440"/>
              <a:ext cx="1204560" cy="970920"/>
            </a:xfrm>
            <a:prstGeom prst="rect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71920" y="4773960"/>
              <a:ext cx="1051560" cy="793440"/>
            </a:xfrm>
            <a:prstGeom prst="rect">
              <a:avLst/>
            </a:prstGeom>
            <a:solidFill>
              <a:srgbClr val="d9d9d9"/>
            </a:solidFill>
            <a:ln w="64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378240" y="5652360"/>
              <a:ext cx="1439640" cy="752400"/>
            </a:xfrm>
            <a:custGeom>
              <a:avLst/>
              <a:gdLst/>
              <a:ahLst/>
              <a:rect l="l" t="t" r="r" b="b"/>
              <a:pathLst>
                <a:path w="564" h="276">
                  <a:moveTo>
                    <a:pt x="564" y="276"/>
                  </a:moveTo>
                  <a:lnTo>
                    <a:pt x="0" y="276"/>
                  </a:lnTo>
                  <a:lnTo>
                    <a:pt x="46" y="0"/>
                  </a:lnTo>
                  <a:lnTo>
                    <a:pt x="519" y="0"/>
                  </a:lnTo>
                  <a:lnTo>
                    <a:pt x="564" y="276"/>
                  </a:lnTo>
                  <a:close/>
                </a:path>
              </a:pathLst>
            </a:custGeom>
            <a:solidFill>
              <a:srgbClr val="bfbf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00640" y="5652360"/>
              <a:ext cx="1197000" cy="2160"/>
            </a:xfrm>
            <a:prstGeom prst="line">
              <a:avLst/>
            </a:prstGeom>
            <a:ln w="1116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492720" y="5736600"/>
              <a:ext cx="1217880" cy="417240"/>
            </a:xfrm>
            <a:custGeom>
              <a:avLst/>
              <a:gdLst/>
              <a:ahLst/>
              <a:rect l="l" t="t" r="r" b="b"/>
              <a:pathLst>
                <a:path w="477" h="153">
                  <a:moveTo>
                    <a:pt x="477" y="153"/>
                  </a:moveTo>
                  <a:lnTo>
                    <a:pt x="0" y="152"/>
                  </a:lnTo>
                  <a:lnTo>
                    <a:pt x="21" y="0"/>
                  </a:lnTo>
                  <a:lnTo>
                    <a:pt x="455" y="0"/>
                  </a:lnTo>
                  <a:lnTo>
                    <a:pt x="477" y="15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3446640" y="6553080"/>
            <a:ext cx="132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149.18.2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097160" y="3336480"/>
            <a:ext cx="142920" cy="134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9120" y="112536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6699"/>
                </a:solidFill>
                <a:latin typeface="Arial"/>
              </a:rPr>
              <a:t>After these settings ----   You can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rcRect l="0" t="42761" r="65369" b="-192"/>
          <a:stretch/>
        </p:blipFill>
        <p:spPr>
          <a:xfrm>
            <a:off x="971640" y="1989000"/>
            <a:ext cx="1944720" cy="1440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826920" y="2276640"/>
            <a:ext cx="505080" cy="1800000"/>
          </a:xfrm>
          <a:custGeom>
            <a:avLst/>
            <a:gdLst/>
            <a:ahLst/>
            <a:rect l="l" t="t" r="r" b="b"/>
            <a:pathLst>
              <a:path w="318" h="1134">
                <a:moveTo>
                  <a:pt x="136" y="0"/>
                </a:moveTo>
                <a:lnTo>
                  <a:pt x="0" y="0"/>
                </a:lnTo>
                <a:lnTo>
                  <a:pt x="0" y="1134"/>
                </a:lnTo>
                <a:lnTo>
                  <a:pt x="318" y="113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30920" y="3911760"/>
            <a:ext cx="18615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. Double click (star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3635280" y="4869000"/>
            <a:ext cx="576360" cy="450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643000" y="5373720"/>
            <a:ext cx="2506320" cy="733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. This clock 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d stop wh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reconfiguration is finish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4284360" y="5157360"/>
            <a:ext cx="13669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45160" y="1341360"/>
            <a:ext cx="169416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. Interrupt this 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364000" y="1628640"/>
            <a:ext cx="5032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0:10:30Z</dcterms:created>
  <dc:creator>Bauer, armin</dc:creator>
  <dc:description/>
  <dc:language>en-US</dc:language>
  <cp:lastModifiedBy>abauer</cp:lastModifiedBy>
  <dcterms:modified xsi:type="dcterms:W3CDTF">2010-02-26T14:54:06Z</dcterms:modified>
  <cp:revision>14</cp:revision>
  <dc:subject/>
  <dc:title>Folie 1</dc:title>
</cp:coreProperties>
</file>